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CCF-4536-4C20-B62D-63DC74BC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ABF-A16D-433A-AF0D-C140EB5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190-5FD2-4C77-ACA6-EB003DC9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786-D25E-4237-A80B-C98970CD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E69DF-82C7-4BC3-B60A-2DB2404F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9F15B-C825-4DC1-B28F-851BD42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BCC8D-BB64-4D2D-BE52-D4BD6627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FA831-5A37-4266-9457-48A7B81C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1E7A-AE47-424D-8C8F-7A748D6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0FEDE-175B-4407-AC7A-E65970A9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9EC5-7F48-4B0C-8248-FAB8E76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8C6-4719-412D-A2F5-00950B29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1088B-8A30-4B7F-A6DE-08F54D6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5F8D-2978-493A-B529-CF82DB8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C8DA7-A1E3-4873-9CBF-E8926D3D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0D94B-6775-469F-9A57-FA13F5BE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19E79-5629-417D-8F4E-86DE92F7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066-4720-4386-99C7-9580CB3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EB8-C367-47F0-ACFF-F571EF5B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730-33FD-47C6-A019-04F2FE2C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5C5-4C0E-4772-AEEE-0B7253A4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AFD-20E8-4ACE-A225-1BB4749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4CC-6715-46F8-88A3-B457AAE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01E-14DB-4797-9654-D565C8E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B8FF-DFF7-4EF5-B675-689B22BA8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6FF-353F-4AE7-A055-5F191B1BE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58760"/>
            <a:ext cx="9144000" cy="6519240"/>
            <a:chOff x="0" y="158760"/>
            <a:chExt cx="9144000" cy="65192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476360" y="1268280"/>
              <a:ext cx="643896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15876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59640" y="6093000"/>
              <a:ext cx="248436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iencia e Ingeniería de Materi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309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56000" y="1268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0360" y="170028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419200" y="385452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128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8360" y="5877000"/>
              <a:ext cx="136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C 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0920" y="5950080"/>
              <a:ext cx="649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8000" y="5950080"/>
              <a:ext cx="1513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= 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7280" y="55897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6359400" y="765000"/>
                  <a:ext cx="153828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den>
                          </m:f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c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353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24000" y="134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00360" y="170028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0360" y="5589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0920" y="5950080"/>
              <a:ext cx="649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995640" y="785880"/>
                  <a:ext cx="427212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2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7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2771640" y="90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grpSp>
          <p:nvGrpSpPr>
            <p:cNvPr id="398" name=""/>
            <p:cNvGrpSpPr/>
            <p:nvPr/>
          </p:nvGrpSpPr>
          <p:grpSpPr>
            <a:xfrm>
              <a:off x="179280" y="0"/>
              <a:ext cx="8964720" cy="6926760"/>
              <a:chOff x="179280" y="0"/>
              <a:chExt cx="8964720" cy="6926760"/>
            </a:xfrm>
          </p:grpSpPr>
          <p:sp>
            <p:nvSpPr>
              <p:cNvPr id="399" name=""/>
              <p:cNvSpPr/>
              <p:nvPr/>
            </p:nvSpPr>
            <p:spPr>
              <a:xfrm>
                <a:off x="900000" y="765000"/>
                <a:ext cx="7417080" cy="5832720"/>
              </a:xfrm>
              <a:prstGeom prst="rect">
                <a:avLst/>
              </a:prstGeom>
              <a:solidFill>
                <a:srgbClr val="af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116000" y="57340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727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50920" y="1341360"/>
                <a:ext cx="1729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19280" y="1050840"/>
                <a:ext cx="0" cy="533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19280" y="184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56360" y="234936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48000" y="364500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20000" y="6451560"/>
                <a:ext cx="21240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9280" y="0"/>
                <a:ext cx="874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16360" y="39337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50920" y="1413000"/>
                <a:ext cx="0" cy="460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71640" y="1989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50920" y="558972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71640" y="1341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59280" y="1052640"/>
                <a:ext cx="29527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4" name=""/>
                  <p:cNvSpPr txBox="1"/>
                  <p:nvPr/>
                </p:nvSpPr>
                <p:spPr>
                  <a:xfrm>
                    <a:off x="4140360" y="836640"/>
                    <a:ext cx="4054320" cy="103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,6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,6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,0218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58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2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5" name=""/>
              <p:cNvSpPr/>
              <p:nvPr/>
            </p:nvSpPr>
            <p:spPr>
              <a:xfrm>
                <a:off x="1619280" y="1484280"/>
                <a:ext cx="5400720" cy="2232000"/>
              </a:xfrm>
              <a:prstGeom prst="line">
                <a:avLst/>
              </a:prstGeom>
              <a:ln w="38160">
                <a:solidFill>
                  <a:srgbClr val="00d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27280" y="2205000"/>
                <a:ext cx="2449440" cy="1511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19280" y="1484280"/>
                <a:ext cx="576360" cy="72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140000" y="3716280"/>
                <a:ext cx="936360" cy="22338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618920" y="2205000"/>
                <a:ext cx="576360" cy="647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19280" y="4869000"/>
                <a:ext cx="2521080" cy="108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619280" y="2204640"/>
                <a:ext cx="1008000" cy="6476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95640" y="220500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0920" y="5950080"/>
                <a:ext cx="60501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9280" y="4869000"/>
                <a:ext cx="14436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27280" y="2205000"/>
                <a:ext cx="72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076720" y="3716280"/>
                <a:ext cx="3024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692360" y="5950080"/>
                <a:ext cx="71280" cy="43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435640" y="335772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14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03640" y="3716280"/>
                <a:ext cx="58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,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80000" y="595008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7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16000" y="4653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912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92360" y="595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lang="es-ES" sz="800" spc="-1" strike="noStrike">
                    <a:solidFill>
                      <a:srgbClr val="3333ff"/>
                    </a:solidFill>
                    <a:latin typeface="Times New Roman"/>
                  </a:rPr>
                  <a:t>Fe</a:t>
                </a:r>
                <a:r>
                  <a:rPr b="1" lang="es-ES" sz="800" spc="-1" strike="noStrike" baseline="-25000">
                    <a:solidFill>
                      <a:srgbClr val="3333ff"/>
                    </a:solidFill>
                    <a:latin typeface="Times New Roman"/>
                  </a:rPr>
                  <a:t>3</a:t>
                </a:r>
                <a:r>
                  <a:rPr b="1" lang="es-ES" sz="8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76720" y="587700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r>
                  <a:rPr b="1" lang="es-ES" sz="18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763640" y="5950080"/>
                <a:ext cx="287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16360" y="907920"/>
                <a:ext cx="12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T = 726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01080" y="2924280"/>
                <a:ext cx="0" cy="3457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020000" y="2924280"/>
                <a:ext cx="1081080" cy="792000"/>
              </a:xfrm>
              <a:prstGeom prst="line">
                <a:avLst/>
              </a:prstGeom>
              <a:ln w="381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59640" y="37162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,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24720" y="59500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6,6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71640" y="263700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39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7740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444" name=""/>
            <p:cNvSpPr/>
            <p:nvPr/>
          </p:nvSpPr>
          <p:spPr>
            <a:xfrm>
              <a:off x="82692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19280" y="105264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0920" y="1413000"/>
              <a:ext cx="0" cy="504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0920" y="602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186080" y="907920"/>
                  <a:ext cx="381636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92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7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0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1928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76720" y="60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3640" y="5950080"/>
              <a:ext cx="287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24720" y="602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19280" y="6381720"/>
              <a:ext cx="6481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0920" y="638172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692360" y="6381720"/>
              <a:ext cx="358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539640" y="260280"/>
            <a:ext cx="8604360" cy="6469560"/>
            <a:chOff x="539640" y="260280"/>
            <a:chExt cx="8604360" cy="6469560"/>
          </a:xfrm>
        </p:grpSpPr>
        <p:sp>
          <p:nvSpPr>
            <p:cNvPr id="489" name=""/>
            <p:cNvSpPr/>
            <p:nvPr/>
          </p:nvSpPr>
          <p:spPr>
            <a:xfrm>
              <a:off x="684360" y="260280"/>
              <a:ext cx="792144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0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319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LC + LF + Recoc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2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3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40 %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hapa de embutición profunda (Industria del automóvil: carrocería; embalajes; envases; …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99280" y="6453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611280" y="2565360"/>
              <a:ext cx="7934400" cy="2852640"/>
              <a:chOff x="611280" y="2565360"/>
              <a:chExt cx="7934400" cy="285264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611280" y="2565360"/>
                <a:ext cx="7934400" cy="2852640"/>
                <a:chOff x="611280" y="2565360"/>
                <a:chExt cx="7934400" cy="2852640"/>
              </a:xfrm>
            </p:grpSpPr>
            <p:pic>
              <p:nvPicPr>
                <p:cNvPr id="4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2565360"/>
                  <a:ext cx="3735360" cy="252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/>
                <p:cNvPicPr/>
                <p:nvPr/>
              </p:nvPicPr>
              <p:blipFill>
                <a:blip r:embed="rId2"/>
                <a:srcRect l="0" t="0" r="1175" b="1742"/>
                <a:stretch/>
              </p:blipFill>
              <p:spPr>
                <a:xfrm>
                  <a:off x="4788000" y="2566800"/>
                  <a:ext cx="3757680" cy="25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6" name=""/>
                <p:cNvSpPr/>
                <p:nvPr/>
              </p:nvSpPr>
              <p:spPr>
                <a:xfrm>
                  <a:off x="3708360" y="504972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812000" y="504972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00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×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804000" y="4221000"/>
                <a:ext cx="57636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6732360" y="4076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164360" y="3933720"/>
                <a:ext cx="217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476360" y="515772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cero moldead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6000" y="4508640"/>
              <a:ext cx="6476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li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2268000" y="4581000"/>
              <a:ext cx="287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505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506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2340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24000" y="52293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512" name=""/>
            <p:cNvSpPr/>
            <p:nvPr/>
          </p:nvSpPr>
          <p:spPr>
            <a:xfrm>
              <a:off x="826920" y="765000"/>
              <a:ext cx="74901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916000" y="2781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51280" y="3429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3463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86200" y="907920"/>
              <a:ext cx="453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22560" y="378792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19640" y="3787920"/>
              <a:ext cx="1511280" cy="115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19280" y="1484280"/>
              <a:ext cx="6408720" cy="25909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27280" y="26370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378792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619280" y="3787560"/>
              <a:ext cx="3600360" cy="15843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19280" y="1484280"/>
              <a:ext cx="2303280" cy="230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619280" y="3787920"/>
              <a:ext cx="2303280" cy="158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88000" y="2060640"/>
              <a:ext cx="0" cy="360036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40360" y="566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54200" y="32828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51640" y="227664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35280" y="5013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16360" y="3429000"/>
              <a:ext cx="45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3333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16360" y="234936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64000" y="38606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27280" y="494172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71640" y="134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71640" y="35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1640" y="51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88000" y="2421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6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41792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0" y="0"/>
            <a:ext cx="8964720" cy="6603120"/>
            <a:chOff x="0" y="0"/>
            <a:chExt cx="8964720" cy="6603120"/>
          </a:xfrm>
        </p:grpSpPr>
        <p:sp>
          <p:nvSpPr>
            <p:cNvPr id="544" name=""/>
            <p:cNvSpPr/>
            <p:nvPr/>
          </p:nvSpPr>
          <p:spPr>
            <a:xfrm>
              <a:off x="43200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0400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7676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8320" y="1917720"/>
              <a:ext cx="6350040" cy="194292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832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00720" y="2708280"/>
              <a:ext cx="3887640" cy="115236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8320" y="1917720"/>
              <a:ext cx="1406520" cy="1955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832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7672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0720" y="2060640"/>
              <a:ext cx="0" cy="3384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4794480" y="1176480"/>
                  <a:ext cx="27972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3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5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3-0,1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 flipV="1">
              <a:off x="115272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15272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00720" y="2349360"/>
              <a:ext cx="14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= 15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24000" y="3860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32360" y="4581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508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508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108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236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836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8836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0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08360" y="5445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2108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4508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5080" y="4941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574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17600" y="1917720"/>
              <a:ext cx="1382760" cy="18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3789360"/>
              <a:ext cx="2370240" cy="190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332000" y="3789360"/>
              <a:ext cx="3024000" cy="1370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580000" y="1109520"/>
                  <a:ext cx="2832120" cy="105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17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1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4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83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"/>
            <p:cNvSpPr/>
            <p:nvPr/>
          </p:nvSpPr>
          <p:spPr>
            <a:xfrm>
              <a:off x="140328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88000" y="486900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56000" y="378936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08000" y="522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87640" y="5589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00360" y="378936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332000" y="3789360"/>
              <a:ext cx="3024000" cy="13683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332000" y="4005360"/>
              <a:ext cx="2519280" cy="11523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51280" y="1989000"/>
              <a:ext cx="0" cy="36403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19640" y="3716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32000" y="3789000"/>
              <a:ext cx="1368360" cy="1368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604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24000" y="1197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00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7672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979640" y="5950080"/>
              <a:ext cx="7128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19280" y="6021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87640" y="5229360"/>
              <a:ext cx="2736720" cy="720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987640" y="1557000"/>
              <a:ext cx="0" cy="4537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87640" y="49417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4822920" y="765000"/>
                  <a:ext cx="33130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876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45" name=""/>
            <p:cNvSpPr/>
            <p:nvPr/>
          </p:nvSpPr>
          <p:spPr>
            <a:xfrm>
              <a:off x="2627280" y="6021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,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sp>
          <p:nvSpPr>
            <p:cNvPr id="88" name=""/>
            <p:cNvSpPr/>
            <p:nvPr/>
          </p:nvSpPr>
          <p:spPr>
            <a:xfrm>
              <a:off x="6408720" y="6370560"/>
              <a:ext cx="2735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iencia e Ingeniería de Materi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120" y="333360"/>
              <a:ext cx="860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187280" y="1341360"/>
              <a:ext cx="6829560" cy="458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649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51280" y="242100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4356000" y="1101600"/>
                  <a:ext cx="404676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6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636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9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27640" y="4508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32000" y="5229360"/>
              <a:ext cx="165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00360" y="3860640"/>
              <a:ext cx="115092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51280" y="3860640"/>
              <a:ext cx="3889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5928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03640" y="33577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680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702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0000" y="2421000"/>
              <a:ext cx="0" cy="29923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3997440" y="981000"/>
                  <a:ext cx="418608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3280" y="458136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32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32000" y="5373720"/>
              <a:ext cx="165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00360" y="3860640"/>
              <a:ext cx="10796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8000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3333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9280" y="335772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73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733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0036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400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5928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35280" y="5373720"/>
              <a:ext cx="1728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47640" y="60213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56000" y="5373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08360" y="5373720"/>
              <a:ext cx="35892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4716360" y="785880"/>
                  <a:ext cx="360072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3</m:t>
                          </m:r>
                          <m:r>
                            <m:t xml:space="preserve"> </m:t>
                          </m:r>
                          <m:r>
                            <m:t xml:space="preserve">%C</m:t>
                          </m:r>
                        </m:e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%C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3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99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00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4" name=""/>
            <p:cNvSpPr/>
            <p:nvPr/>
          </p:nvSpPr>
          <p:spPr>
            <a:xfrm>
              <a:off x="3276720" y="126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800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64000" y="5373720"/>
              <a:ext cx="576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16000" y="5157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63640" y="49417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95640" y="4941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19280" y="4869000"/>
              <a:ext cx="431640" cy="108108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35280" y="5373720"/>
              <a:ext cx="215640" cy="57456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40360" y="5373720"/>
              <a:ext cx="3024000" cy="576360"/>
            </a:xfrm>
            <a:prstGeom prst="rtTriangl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783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71640" y="609300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6400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6756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50920" y="5950080"/>
              <a:ext cx="1513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4" name=""/>
                <p:cNvSpPr txBox="1"/>
                <p:nvPr/>
              </p:nvSpPr>
              <p:spPr>
                <a:xfrm>
                  <a:off x="3924360" y="785880"/>
                  <a:ext cx="4343400" cy="105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8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71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25" name=""/>
            <p:cNvSpPr/>
            <p:nvPr/>
          </p:nvSpPr>
          <p:spPr>
            <a:xfrm>
              <a:off x="2771640" y="112536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27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828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3528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84360" y="1557360"/>
              <a:ext cx="0" cy="4608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2" name=""/>
                <p:cNvSpPr txBox="1"/>
                <p:nvPr/>
              </p:nvSpPr>
              <p:spPr>
                <a:xfrm>
                  <a:off x="4219560" y="836640"/>
                  <a:ext cx="389592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9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3528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76720" y="5877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63640" y="5950080"/>
              <a:ext cx="72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3280" y="1197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70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871" name=""/>
            <p:cNvSpPr/>
            <p:nvPr/>
          </p:nvSpPr>
          <p:spPr>
            <a:xfrm>
              <a:off x="82692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2360" y="1125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1484280"/>
              <a:ext cx="0" cy="504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84360" y="602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4195800" y="907920"/>
                  <a:ext cx="379584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7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1928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76720" y="60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63640" y="5950080"/>
              <a:ext cx="287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24720" y="602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19280" y="6381720"/>
              <a:ext cx="6481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0920" y="638172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692360" y="6381720"/>
              <a:ext cx="79200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539640" y="907920"/>
            <a:ext cx="8604360" cy="5821920"/>
            <a:chOff x="539640" y="907920"/>
            <a:chExt cx="8604360" cy="5821920"/>
          </a:xfrm>
        </p:grpSpPr>
        <p:sp>
          <p:nvSpPr>
            <p:cNvPr id="916" name=""/>
            <p:cNvSpPr/>
            <p:nvPr/>
          </p:nvSpPr>
          <p:spPr>
            <a:xfrm>
              <a:off x="755640" y="907920"/>
              <a:ext cx="79218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1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386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9640" y="5589720"/>
              <a:ext cx="82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hapa naval, perfiles, tuberías, redondos,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99280" y="6453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484360" y="2421000"/>
              <a:ext cx="4229280" cy="3105000"/>
              <a:chOff x="2484360" y="2421000"/>
              <a:chExt cx="4229280" cy="3105000"/>
            </a:xfrm>
          </p:grpSpPr>
          <p:pic>
            <p:nvPicPr>
              <p:cNvPr id="9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4360" y="2421000"/>
                <a:ext cx="422928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5796000" y="515772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350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923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924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7" name=""/>
            <p:cNvSpPr/>
            <p:nvPr/>
          </p:nvSpPr>
          <p:spPr>
            <a:xfrm>
              <a:off x="2556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40000" y="52293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930" name=""/>
            <p:cNvSpPr/>
            <p:nvPr/>
          </p:nvSpPr>
          <p:spPr>
            <a:xfrm>
              <a:off x="1042920" y="836640"/>
              <a:ext cx="7272360" cy="561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76720" y="3573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59280" y="3860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2560" y="378792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19640" y="3787920"/>
              <a:ext cx="1511280" cy="115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19280" y="1484280"/>
              <a:ext cx="6408720" cy="25909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19640" y="292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16360" y="2924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19640" y="378792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9280" y="3789000"/>
              <a:ext cx="3600360" cy="1582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19280" y="1484280"/>
              <a:ext cx="2303280" cy="230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618920" y="3789360"/>
              <a:ext cx="2305080" cy="158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508360" y="2349360"/>
              <a:ext cx="73080" cy="324036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59280" y="566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50920" y="314172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12000" y="2205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14920" y="48672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08720" y="2708280"/>
              <a:ext cx="45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08720" y="3789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3203640" y="306864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92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93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2124000" y="1557360"/>
              <a:ext cx="0" cy="367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8000" y="52243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05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11280" y="907920"/>
            <a:ext cx="7920000" cy="5257800"/>
          </a:xfrm>
          <a:prstGeom prst="rect">
            <a:avLst/>
          </a:prstGeom>
          <a:solidFill>
            <a:srgbClr val="ccffff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983280" y="6381720"/>
            <a:ext cx="21607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Metalotecnia E.T.S.I.M.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9280" y="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AGRAMA Fe – C METAES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56040" y="476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17600" y="1917720"/>
            <a:ext cx="6350040" cy="1942920"/>
          </a:xfrm>
          <a:prstGeom prst="rtTriangle">
            <a:avLst/>
          </a:prstGeom>
          <a:solidFill>
            <a:srgbClr val="ccffff">
              <a:alpha val="9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317600" y="1176480"/>
            <a:ext cx="0" cy="458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932360" y="2997360"/>
            <a:ext cx="2735280" cy="863280"/>
          </a:xfrm>
          <a:prstGeom prst="rtTriangle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7600" y="1917720"/>
            <a:ext cx="1406520" cy="1955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17600" y="1917720"/>
            <a:ext cx="7134120" cy="2157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356000" y="3860640"/>
            <a:ext cx="2370240" cy="1832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32360" y="24210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95640" y="981000"/>
                <a:ext cx="4465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3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5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53-0,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1332000" y="3860640"/>
            <a:ext cx="3024000" cy="12988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 flipV="1">
            <a:off x="1332000" y="3860280"/>
            <a:ext cx="1368360" cy="1297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32360" y="2637000"/>
            <a:ext cx="14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imes New Roman"/>
              </a:rPr>
              <a:t>T</a:t>
            </a:r>
            <a:r>
              <a:rPr b="1" lang="es-ES" sz="1800" spc="-1" strike="noStrike" baseline="-25000">
                <a:solidFill>
                  <a:srgbClr val="00cc00"/>
                </a:solidFill>
                <a:latin typeface="Times New Roman"/>
              </a:rPr>
              <a:t>L</a:t>
            </a:r>
            <a:r>
              <a:rPr b="1" lang="es-ES" sz="1800" spc="-1" strike="noStrike">
                <a:solidFill>
                  <a:srgbClr val="00cc00"/>
                </a:solidFill>
                <a:latin typeface="Times New Roman"/>
              </a:rPr>
              <a:t>= 1522 º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03280" y="386064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492360" y="4653000"/>
            <a:ext cx="5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4360" y="17002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4360" y="3645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067280" y="35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27280" y="350028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427640" y="386064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96360" y="350028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932360" y="37893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0,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211640" y="537372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=  0,20 %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700360" y="386064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16360" y="1484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8436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984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985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32360" y="256536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4" name=""/>
                <p:cNvSpPr txBox="1"/>
                <p:nvPr/>
              </p:nvSpPr>
              <p:spPr>
                <a:xfrm>
                  <a:off x="4356000" y="981000"/>
                  <a:ext cx="4046760" cy="13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95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92360" y="472428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11640" y="5373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00360" y="3860640"/>
              <a:ext cx="223200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32360" y="3860640"/>
              <a:ext cx="28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48000" y="335772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724360" y="33577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1016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5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037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038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32360" y="256536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7" name=""/>
                <p:cNvSpPr txBox="1"/>
                <p:nvPr/>
              </p:nvSpPr>
              <p:spPr>
                <a:xfrm>
                  <a:off x="3780000" y="981000"/>
                  <a:ext cx="462276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83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6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48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19640" y="4797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2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11640" y="5373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56000" y="3860640"/>
              <a:ext cx="57636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32360" y="3860640"/>
              <a:ext cx="2808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0072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96000" y="335772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4648320" y="2730600"/>
            <a:ext cx="4038480" cy="2463840"/>
          </a:xfrm>
          <a:prstGeom prst="rect">
            <a:avLst/>
          </a:prstGeom>
          <a:ln w="0">
            <a:noFill/>
          </a:ln>
        </p:spPr>
      </p:pic>
      <p:grpSp>
        <p:nvGrpSpPr>
          <p:cNvPr id="1069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070" name=""/>
            <p:cNvSpPr/>
            <p:nvPr/>
          </p:nvSpPr>
          <p:spPr>
            <a:xfrm>
              <a:off x="3276720" y="4005360"/>
              <a:ext cx="3959280" cy="1944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71640" y="765000"/>
              <a:ext cx="72723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6720" y="3933720"/>
              <a:ext cx="4032000" cy="2016360"/>
            </a:xfrm>
            <a:prstGeom prst="rtTriangle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32000" y="227664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19280" y="3573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940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56000" y="4581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08360" y="4149720"/>
              <a:ext cx="3600360" cy="180036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19280" y="1844640"/>
              <a:ext cx="576360" cy="20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19280" y="1844640"/>
              <a:ext cx="6408720" cy="3745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1618920" y="3933720"/>
              <a:ext cx="576360" cy="1511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76720" y="3933720"/>
              <a:ext cx="4032000" cy="201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08360" y="2637000"/>
              <a:ext cx="0" cy="3456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95640" y="3933720"/>
              <a:ext cx="10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6720" y="3933720"/>
              <a:ext cx="1942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80000" y="3933720"/>
              <a:ext cx="143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= 1490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24000" y="3500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1636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7672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08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708360" y="5877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71640" y="162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4067280" y="981000"/>
                  <a:ext cx="4091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2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8" name=""/>
            <p:cNvSpPr/>
            <p:nvPr/>
          </p:nvSpPr>
          <p:spPr>
            <a:xfrm>
              <a:off x="7308720" y="5950080"/>
              <a:ext cx="35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732720" y="5950080"/>
              <a:ext cx="576000" cy="358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3600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3600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1619280" y="3933720"/>
              <a:ext cx="1657440" cy="1511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71640" y="5229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05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06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16000" y="580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71640" y="134136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08360" y="501336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 = 864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68560" y="5468760"/>
              <a:ext cx="1254240" cy="113652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4" name=""/>
                <p:cNvSpPr txBox="1"/>
                <p:nvPr/>
              </p:nvSpPr>
              <p:spPr>
                <a:xfrm>
                  <a:off x="4643280" y="765000"/>
                  <a:ext cx="360072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,2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5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72360" y="587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4292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47640" y="59500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619280" y="4797360"/>
              <a:ext cx="4105080" cy="115272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35280" y="5373720"/>
              <a:ext cx="2089080" cy="57636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635280" y="198864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5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5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35280" y="602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35280" y="1700280"/>
              <a:ext cx="0" cy="4608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59280" y="5950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3867120" y="765000"/>
                  <a:ext cx="4361040" cy="115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61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5744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95640" y="551664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2728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96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97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5640" y="616572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84328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84328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2" name=""/>
                <p:cNvSpPr txBox="1"/>
                <p:nvPr/>
              </p:nvSpPr>
              <p:spPr>
                <a:xfrm>
                  <a:off x="3635280" y="836640"/>
                  <a:ext cx="45579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93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1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19564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76720" y="59500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50920" y="5950080"/>
              <a:ext cx="792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4000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3780000" y="24649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242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243" name=""/>
            <p:cNvSpPr/>
            <p:nvPr/>
          </p:nvSpPr>
          <p:spPr>
            <a:xfrm>
              <a:off x="971640" y="665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116000" y="505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124000" y="1241280"/>
              <a:ext cx="172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56360" y="2178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43280" y="1601640"/>
              <a:ext cx="0" cy="4680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43280" y="5850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"/>
                <p:cNvSpPr txBox="1"/>
                <p:nvPr/>
              </p:nvSpPr>
              <p:spPr>
                <a:xfrm>
                  <a:off x="3780000" y="736560"/>
                  <a:ext cx="4557600" cy="13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03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97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59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4140000" y="3544920"/>
              <a:ext cx="93636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619280" y="4194000"/>
              <a:ext cx="2521080" cy="1081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50920" y="527364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19280" y="4194000"/>
              <a:ext cx="431640" cy="108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692360" y="5273640"/>
              <a:ext cx="35856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35640" y="3186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80000" y="5273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16000" y="4049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9640" y="4913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50920" y="57783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360" y="5850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92360" y="621036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12000" y="613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92360" y="6210360"/>
              <a:ext cx="640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43280" y="6210360"/>
              <a:ext cx="5257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618920" y="621036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19280" y="4986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3280" y="6137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971640" y="2465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250920" y="260280"/>
            <a:ext cx="8893080" cy="6599520"/>
            <a:chOff x="250920" y="260280"/>
            <a:chExt cx="8893080" cy="6599520"/>
          </a:xfrm>
        </p:grpSpPr>
        <p:grpSp>
          <p:nvGrpSpPr>
            <p:cNvPr id="1291" name=""/>
            <p:cNvGrpSpPr/>
            <p:nvPr/>
          </p:nvGrpSpPr>
          <p:grpSpPr>
            <a:xfrm>
              <a:off x="684360" y="2565360"/>
              <a:ext cx="7850160" cy="2817720"/>
              <a:chOff x="684360" y="2565360"/>
              <a:chExt cx="7850160" cy="2817720"/>
            </a:xfrm>
          </p:grpSpPr>
          <p:sp>
            <p:nvSpPr>
              <p:cNvPr id="1292" name=""/>
              <p:cNvSpPr/>
              <p:nvPr/>
            </p:nvSpPr>
            <p:spPr>
              <a:xfrm>
                <a:off x="3781440" y="50148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13800" y="501480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94" name="" descr=""/>
              <p:cNvPicPr/>
              <p:nvPr/>
            </p:nvPicPr>
            <p:blipFill>
              <a:blip r:embed="rId1"/>
              <a:srcRect l="0" t="0" r="0" b="3247"/>
              <a:stretch/>
            </p:blipFill>
            <p:spPr>
              <a:xfrm>
                <a:off x="684360" y="2565360"/>
                <a:ext cx="3803400" cy="25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" descr=""/>
              <p:cNvPicPr/>
              <p:nvPr/>
            </p:nvPicPr>
            <p:blipFill>
              <a:blip r:embed="rId2"/>
              <a:srcRect l="0" t="0" r="0" b="2634"/>
              <a:stretch/>
            </p:blipFill>
            <p:spPr>
              <a:xfrm>
                <a:off x="4645080" y="2565360"/>
                <a:ext cx="3828960" cy="251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6" name=""/>
            <p:cNvSpPr/>
            <p:nvPr/>
          </p:nvSpPr>
          <p:spPr>
            <a:xfrm>
              <a:off x="7128000" y="65833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0920" y="260280"/>
              <a:ext cx="871380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20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419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LC + LF + Recoc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2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40 – 5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18 – 22 %; HB = 115 – 145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Piezas soldables; herrajes de avión; piezas embutidas;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76360" y="5084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Estado normaliz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99" name=""/>
            <p:cNvSpPr/>
            <p:nvPr/>
          </p:nvSpPr>
          <p:spPr>
            <a:xfrm>
              <a:off x="826920" y="765000"/>
              <a:ext cx="74901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06200" y="177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6920" y="2133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66920" y="4941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050920" y="508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1280" y="34639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3640" y="3463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86200" y="907920"/>
              <a:ext cx="453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2560" y="378756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3787560"/>
              <a:ext cx="151128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9280" y="1484280"/>
              <a:ext cx="6408720" cy="25905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9280" y="1773000"/>
              <a:ext cx="50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2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d2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2360" y="162864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19640" y="378756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19280" y="3787200"/>
              <a:ext cx="3600360" cy="15843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19280" y="1484280"/>
              <a:ext cx="2303280" cy="23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619280" y="3787560"/>
              <a:ext cx="2303280" cy="1584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6920" y="1123920"/>
              <a:ext cx="1440" cy="468144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63640" y="5805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4200" y="32828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1640" y="227628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4920" y="48672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1341360"/>
              <a:ext cx="45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8000" y="19890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360" y="270828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38606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458136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5013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94172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4360" y="4797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Arial"/>
                </a:rPr>
                <a:t>c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2360" y="4721040"/>
              <a:ext cx="50472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99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1640" y="134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71640" y="35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1640" y="51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1301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5" name=""/>
            <p:cNvSpPr/>
            <p:nvPr/>
          </p:nvSpPr>
          <p:spPr>
            <a:xfrm>
              <a:off x="2987640" y="1989000"/>
              <a:ext cx="0" cy="324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843280" y="5229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0,4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0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09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17600" y="1917720"/>
              <a:ext cx="6350040" cy="194292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00720" y="3429000"/>
              <a:ext cx="1366920" cy="43164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00720" y="3068640"/>
              <a:ext cx="0" cy="27050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0" name=""/>
                <p:cNvSpPr txBox="1"/>
                <p:nvPr/>
              </p:nvSpPr>
              <p:spPr>
                <a:xfrm>
                  <a:off x="3995640" y="988920"/>
                  <a:ext cx="4465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3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5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3-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21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27640" y="3068640"/>
              <a:ext cx="140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= 1501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403280" y="3860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492360" y="465300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7280" y="3500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27280" y="350028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96360" y="3500280"/>
              <a:ext cx="6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35640" y="573408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16360" y="1484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38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56360" y="263700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4356000" y="1104840"/>
                  <a:ext cx="404676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1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1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48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92360" y="472428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788000" y="5445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00360" y="3860640"/>
              <a:ext cx="345600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156360" y="3860640"/>
              <a:ext cx="15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56000" y="335772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43640" y="342900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1369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1371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6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1382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90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91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27640" y="285264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0" name=""/>
                <p:cNvSpPr txBox="1"/>
                <p:nvPr/>
              </p:nvSpPr>
              <p:spPr>
                <a:xfrm>
                  <a:off x="3780000" y="984240"/>
                  <a:ext cx="4622760" cy="13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7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2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1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19640" y="4797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48360" y="5661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56000" y="3860640"/>
              <a:ext cx="187164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227640" y="3860640"/>
              <a:ext cx="1513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19640" y="378936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32720" y="378936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4648320" y="2730600"/>
            <a:ext cx="4038480" cy="2463840"/>
          </a:xfrm>
          <a:prstGeom prst="rect">
            <a:avLst/>
          </a:prstGeom>
          <a:ln w="0">
            <a:noFill/>
          </a:ln>
        </p:spPr>
      </p:pic>
      <p:grpSp>
        <p:nvGrpSpPr>
          <p:cNvPr id="1421" name=""/>
          <p:cNvGrpSpPr/>
          <p:nvPr/>
        </p:nvGrpSpPr>
        <p:grpSpPr>
          <a:xfrm>
            <a:off x="179280" y="0"/>
            <a:ext cx="8964720" cy="6672960"/>
            <a:chOff x="179280" y="0"/>
            <a:chExt cx="8964720" cy="6672960"/>
          </a:xfrm>
        </p:grpSpPr>
        <p:sp>
          <p:nvSpPr>
            <p:cNvPr id="1422" name=""/>
            <p:cNvSpPr/>
            <p:nvPr/>
          </p:nvSpPr>
          <p:spPr>
            <a:xfrm>
              <a:off x="3276720" y="4005360"/>
              <a:ext cx="3959280" cy="1944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71640" y="765000"/>
              <a:ext cx="72723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76720" y="3933720"/>
              <a:ext cx="4032000" cy="2016360"/>
            </a:xfrm>
            <a:prstGeom prst="rtTriangle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35280" y="242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619280" y="3573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40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556000" y="4581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20000" y="645156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572000" y="4581360"/>
              <a:ext cx="2736720" cy="136872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619280" y="1844640"/>
              <a:ext cx="576360" cy="20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19280" y="1844640"/>
              <a:ext cx="6408720" cy="3745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1618920" y="3933720"/>
              <a:ext cx="576360" cy="1511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76720" y="3933720"/>
              <a:ext cx="4032000" cy="201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72000" y="2852640"/>
              <a:ext cx="0" cy="3456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95640" y="3933720"/>
              <a:ext cx="10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76720" y="3933720"/>
              <a:ext cx="1942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00720" y="4292640"/>
              <a:ext cx="143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= 1445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24000" y="3500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91636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7672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08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71640" y="162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8" name=""/>
                <p:cNvSpPr txBox="1"/>
                <p:nvPr/>
              </p:nvSpPr>
              <p:spPr>
                <a:xfrm>
                  <a:off x="4067280" y="981000"/>
                  <a:ext cx="4091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9" name=""/>
            <p:cNvSpPr/>
            <p:nvPr/>
          </p:nvSpPr>
          <p:spPr>
            <a:xfrm>
              <a:off x="7308720" y="5950080"/>
              <a:ext cx="35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732720" y="5950080"/>
              <a:ext cx="576000" cy="358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3600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23600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1619280" y="3933720"/>
              <a:ext cx="1657440" cy="1511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71640" y="5229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456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457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6000" y="580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0836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572000" y="530064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 = 804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4" name=""/>
                <p:cNvSpPr txBox="1"/>
                <p:nvPr/>
              </p:nvSpPr>
              <p:spPr>
                <a:xfrm>
                  <a:off x="4643280" y="779400"/>
                  <a:ext cx="3600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5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72360" y="587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4292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47640" y="59500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72000" y="5661000"/>
              <a:ext cx="1152360" cy="2890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572000" y="206028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0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50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35280" y="602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00720" y="206064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3900600" y="765000"/>
                  <a:ext cx="4294080" cy="115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4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4,8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72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7,2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8764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572000" y="558972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50920" y="5950080"/>
              <a:ext cx="24498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2728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45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546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95640" y="616572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32000" y="184464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0" name=""/>
                <p:cNvSpPr txBox="1"/>
                <p:nvPr/>
              </p:nvSpPr>
              <p:spPr>
                <a:xfrm>
                  <a:off x="3635280" y="836640"/>
                  <a:ext cx="455796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9356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3,56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3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0644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6,4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61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4000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76720" y="59500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0920" y="5950080"/>
              <a:ext cx="10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4000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" descr=""/>
          <p:cNvPicPr/>
          <p:nvPr/>
        </p:nvPicPr>
        <p:blipFill>
          <a:blip r:embed="rId1"/>
          <a:stretch/>
        </p:blipFill>
        <p:spPr>
          <a:xfrm>
            <a:off x="3780000" y="24649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591" name=""/>
            <p:cNvSpPr/>
            <p:nvPr/>
          </p:nvSpPr>
          <p:spPr>
            <a:xfrm>
              <a:off x="971640" y="665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16000" y="505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24000" y="1241280"/>
              <a:ext cx="172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56360" y="2178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132000" y="1628640"/>
              <a:ext cx="0" cy="4680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3780000" y="766800"/>
                  <a:ext cx="4557600" cy="12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948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4,8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3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051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,1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06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4140000" y="3544920"/>
              <a:ext cx="93636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9280" y="4194000"/>
              <a:ext cx="2521080" cy="1081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50920" y="527364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19280" y="4194000"/>
              <a:ext cx="431640" cy="108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692360" y="5273640"/>
              <a:ext cx="35856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435640" y="3186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780000" y="5273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16000" y="4049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79640" y="4913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50920" y="57783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32360" y="5850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12000" y="613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618920" y="621036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19280" y="4986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403280" y="6137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71640" y="2465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92360" y="6237360"/>
              <a:ext cx="14396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32000" y="6237360"/>
              <a:ext cx="496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grpSp>
          <p:nvGrpSpPr>
            <p:cNvPr id="139" name=""/>
            <p:cNvGrpSpPr/>
            <p:nvPr/>
          </p:nvGrpSpPr>
          <p:grpSpPr>
            <a:xfrm>
              <a:off x="179280" y="0"/>
              <a:ext cx="8964720" cy="6603120"/>
              <a:chOff x="179280" y="0"/>
              <a:chExt cx="8964720" cy="660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611280" y="907920"/>
                <a:ext cx="7920000" cy="5257800"/>
              </a:xfrm>
              <a:prstGeom prst="rect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83280" y="6381720"/>
                <a:ext cx="21607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9280" y="0"/>
                <a:ext cx="88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56040" y="476100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17600" y="1917720"/>
                <a:ext cx="6350040" cy="1942920"/>
              </a:xfrm>
              <a:prstGeom prst="rtTriangle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17600" y="1176480"/>
                <a:ext cx="0" cy="45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000" y="2133720"/>
                <a:ext cx="5759640" cy="1726920"/>
              </a:xfrm>
              <a:prstGeom prst="rtTriangle">
                <a:avLst/>
              </a:prstGeom>
              <a:solidFill>
                <a:srgbClr val="00ff00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7600" y="1917720"/>
                <a:ext cx="7134120" cy="215748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56000" y="3860640"/>
                <a:ext cx="2370240" cy="1832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38240" y="1647720"/>
                <a:ext cx="0" cy="364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1" name=""/>
                  <p:cNvSpPr txBox="1"/>
                  <p:nvPr/>
                </p:nvSpPr>
                <p:spPr>
                  <a:xfrm>
                    <a:off x="4941720" y="1176480"/>
                    <a:ext cx="286236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,5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53-0,05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" name=""/>
              <p:cNvSpPr/>
              <p:nvPr/>
            </p:nvSpPr>
            <p:spPr>
              <a:xfrm flipV="1">
                <a:off x="1332000" y="3860640"/>
                <a:ext cx="3024000" cy="12988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332000" y="3860280"/>
                <a:ext cx="1368360" cy="1297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8000" y="1700280"/>
                <a:ext cx="140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cc00"/>
                    </a:solidFill>
                    <a:latin typeface="Times New Roman"/>
                  </a:rPr>
                  <a:t>T</a:t>
                </a:r>
                <a:r>
                  <a:rPr b="1" lang="es-ES" sz="1800" spc="-1" strike="noStrike" baseline="-25000">
                    <a:solidFill>
                      <a:srgbClr val="00cc00"/>
                    </a:solidFill>
                    <a:latin typeface="Times New Roman"/>
                  </a:rPr>
                  <a:t>L</a:t>
                </a:r>
                <a:r>
                  <a:rPr b="1" lang="es-ES" sz="1800" spc="-1" strike="noStrike">
                    <a:solidFill>
                      <a:srgbClr val="00cc00"/>
                    </a:solidFill>
                    <a:latin typeface="Times New Roman"/>
                  </a:rPr>
                  <a:t>= 1534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03280" y="3860640"/>
                <a:ext cx="517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1640" y="45813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4360" y="17002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4360" y="36450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0360" y="34290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1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71640" y="342900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0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27640" y="3860640"/>
                <a:ext cx="331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67640" y="3429000"/>
                <a:ext cx="7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5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79640" y="3789360"/>
                <a:ext cx="72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32000" y="5229360"/>
                <a:ext cx="1655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00360" y="3860640"/>
                <a:ext cx="165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24360" y="2349360"/>
                <a:ext cx="63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84360" y="4941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"/>
          <p:cNvGrpSpPr/>
          <p:nvPr/>
        </p:nvGrpSpPr>
        <p:grpSpPr>
          <a:xfrm>
            <a:off x="250920" y="620640"/>
            <a:ext cx="8893080" cy="6037560"/>
            <a:chOff x="250920" y="620640"/>
            <a:chExt cx="8893080" cy="6037560"/>
          </a:xfrm>
        </p:grpSpPr>
        <p:sp>
          <p:nvSpPr>
            <p:cNvPr id="1637" name=""/>
            <p:cNvSpPr/>
            <p:nvPr/>
          </p:nvSpPr>
          <p:spPr>
            <a:xfrm>
              <a:off x="7128000" y="6381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50920" y="620640"/>
              <a:ext cx="87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4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48000" y="5084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stado bruto de molde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0" name="" descr=""/>
            <p:cNvPicPr/>
            <p:nvPr/>
          </p:nvPicPr>
          <p:blipFill>
            <a:blip r:embed="rId1"/>
            <a:stretch/>
          </p:blipFill>
          <p:spPr>
            <a:xfrm>
              <a:off x="5076720" y="2170080"/>
              <a:ext cx="369900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2"/>
            <a:stretch/>
          </p:blipFill>
          <p:spPr>
            <a:xfrm>
              <a:off x="971640" y="2168640"/>
              <a:ext cx="36986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2425680" y="458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567480" y="458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7128000" y="6381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Metalotecnia E.T.S.I.M.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539640" y="333360"/>
            <a:ext cx="8282160" cy="6302880"/>
            <a:chOff x="539640" y="333360"/>
            <a:chExt cx="8282160" cy="6302880"/>
          </a:xfrm>
        </p:grpSpPr>
        <p:sp>
          <p:nvSpPr>
            <p:cNvPr id="1646" name=""/>
            <p:cNvSpPr/>
            <p:nvPr/>
          </p:nvSpPr>
          <p:spPr>
            <a:xfrm>
              <a:off x="539640" y="333360"/>
              <a:ext cx="8282160" cy="23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4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682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normalizado):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= 40 – 42 Kg/m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= 62 – 7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Kg/m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; A = 13 – 16 %; HB = 247 – 277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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7 – 10 Kgm/c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9640" y="5445000"/>
              <a:ext cx="828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Ejes y elementos de máquinas, piezas de resistencia media, transmisiones. Sus propiedades mecánicas mejoran por temple y revenido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8" name=""/>
            <p:cNvGrpSpPr/>
            <p:nvPr/>
          </p:nvGrpSpPr>
          <p:grpSpPr>
            <a:xfrm>
              <a:off x="1332000" y="2708280"/>
              <a:ext cx="6697080" cy="2600280"/>
              <a:chOff x="1332000" y="2708280"/>
              <a:chExt cx="6697080" cy="260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3854160" y="4938480"/>
                <a:ext cx="79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308720" y="4938480"/>
                <a:ext cx="7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49080" y="494028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Estado normalizad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2708280"/>
                <a:ext cx="3238200" cy="21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9080" y="2708280"/>
                <a:ext cx="3238200" cy="21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1655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1656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9" name=""/>
            <p:cNvSpPr/>
            <p:nvPr/>
          </p:nvSpPr>
          <p:spPr>
            <a:xfrm>
              <a:off x="4356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40360" y="5157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1,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"/>
          <p:cNvGrpSpPr/>
          <p:nvPr/>
        </p:nvGrpSpPr>
        <p:grpSpPr>
          <a:xfrm>
            <a:off x="179280" y="0"/>
            <a:ext cx="8785440" cy="6672960"/>
            <a:chOff x="179280" y="0"/>
            <a:chExt cx="8785440" cy="6672960"/>
          </a:xfrm>
        </p:grpSpPr>
        <p:sp>
          <p:nvSpPr>
            <p:cNvPr id="1662" name=""/>
            <p:cNvSpPr/>
            <p:nvPr/>
          </p:nvSpPr>
          <p:spPr>
            <a:xfrm>
              <a:off x="324000" y="836640"/>
              <a:ext cx="8353440" cy="554508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871640" y="249228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60720" y="2492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376360" y="2492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44720" y="2781360"/>
              <a:ext cx="720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664000" y="2781360"/>
              <a:ext cx="4249440" cy="280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440000" y="1484280"/>
              <a:ext cx="6337080" cy="3168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201080" y="443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84720" y="3357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664000" y="278136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1440000" y="2781360"/>
              <a:ext cx="1224000" cy="7905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4000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40000" y="1484280"/>
              <a:ext cx="504720" cy="12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1440000" y="2781360"/>
              <a:ext cx="504720" cy="7905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5256360" y="2349360"/>
              <a:ext cx="72720" cy="360072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37080" y="595008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40000" y="234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84720" y="184464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84720" y="4653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40360" y="6451560"/>
              <a:ext cx="212436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56360" y="3068640"/>
              <a:ext cx="45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97440" y="4365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71640" y="220500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835280" y="2781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3671640" y="342900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56360" y="4508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400720" y="38606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69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924360" y="1989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948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11640" y="371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0000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0400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48000" y="2205000"/>
              <a:ext cx="3672000" cy="15112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16360" y="2781360"/>
              <a:ext cx="2303640" cy="9349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4716360" y="849240"/>
                  <a:ext cx="349416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,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,3</m:t>
                          </m:r>
                          <m:r>
                            <m:t xml:space="preserve">−</m:t>
                          </m:r>
                          <m:r>
                            <m:t xml:space="preserve">1,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5" name=""/>
            <p:cNvSpPr/>
            <p:nvPr/>
          </p:nvSpPr>
          <p:spPr>
            <a:xfrm>
              <a:off x="4211640" y="429264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203640" y="18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859280" y="249228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600"/>
                  </a:solidFill>
                  <a:latin typeface="Times New Roman"/>
                </a:rPr>
                <a:t>L </a:t>
              </a: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=</a:t>
              </a:r>
              <a:r>
                <a:rPr b="1" lang="es-ES" sz="1800" spc="-1" strike="noStrike" baseline="-25000">
                  <a:solidFill>
                    <a:srgbClr val="00c6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1452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739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740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5600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72360" y="2205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11640" y="371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0400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627280" y="2205000"/>
              <a:ext cx="2449440" cy="15112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16360" y="3500280"/>
              <a:ext cx="360360" cy="21600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"/>
                <p:cNvSpPr txBox="1"/>
                <p:nvPr/>
              </p:nvSpPr>
              <p:spPr>
                <a:xfrm>
                  <a:off x="4716360" y="852480"/>
                  <a:ext cx="3494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1,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83" name=""/>
            <p:cNvSpPr/>
            <p:nvPr/>
          </p:nvSpPr>
          <p:spPr>
            <a:xfrm>
              <a:off x="4211640" y="429264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3640" y="18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43280" y="3213000"/>
              <a:ext cx="151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S 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=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1347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40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788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789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924360" y="1989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2764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435640" y="33577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114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59280" y="59500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139640" y="3716280"/>
              <a:ext cx="936360" cy="223380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40360" y="4581360"/>
              <a:ext cx="576000" cy="1368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1" name=""/>
                <p:cNvSpPr txBox="1"/>
                <p:nvPr/>
              </p:nvSpPr>
              <p:spPr>
                <a:xfrm>
                  <a:off x="4716360" y="836640"/>
                  <a:ext cx="34941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,0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32" name=""/>
            <p:cNvSpPr/>
            <p:nvPr/>
          </p:nvSpPr>
          <p:spPr>
            <a:xfrm>
              <a:off x="4716360" y="4292640"/>
              <a:ext cx="151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= 799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6667200" y="37904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834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835" name=""/>
            <p:cNvSpPr/>
            <p:nvPr/>
          </p:nvSpPr>
          <p:spPr>
            <a:xfrm>
              <a:off x="900000" y="665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16000" y="5562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300720" y="232092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716360" y="5778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4140000" y="3544920"/>
              <a:ext cx="936360" cy="2233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619280" y="469728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19280" y="469728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1834920" y="5778360"/>
              <a:ext cx="21564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435640" y="3186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80000" y="5778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16000" y="4481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979640" y="541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524720" y="5778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619280" y="5418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71640" y="2465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716360" y="224964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716360" y="2249280"/>
              <a:ext cx="0" cy="36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11640" y="4121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012000" y="53085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211640" y="5310360"/>
              <a:ext cx="5763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0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6" name=""/>
                <p:cNvSpPr txBox="1"/>
                <p:nvPr/>
              </p:nvSpPr>
              <p:spPr>
                <a:xfrm>
                  <a:off x="4356000" y="765000"/>
                  <a:ext cx="388620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10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90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77" name=""/>
            <p:cNvSpPr/>
            <p:nvPr/>
          </p:nvSpPr>
          <p:spPr>
            <a:xfrm>
              <a:off x="3132000" y="1197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40360" y="5805360"/>
              <a:ext cx="57600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716360" y="5805360"/>
              <a:ext cx="3384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2050920" y="5805360"/>
              <a:ext cx="2089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1" name="" descr=""/>
          <p:cNvPicPr/>
          <p:nvPr/>
        </p:nvPicPr>
        <p:blipFill>
          <a:blip r:embed="rId1"/>
          <a:stretch/>
        </p:blipFill>
        <p:spPr>
          <a:xfrm>
            <a:off x="6667200" y="37904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88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883" name=""/>
            <p:cNvSpPr/>
            <p:nvPr/>
          </p:nvSpPr>
          <p:spPr>
            <a:xfrm>
              <a:off x="971640" y="692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16000" y="5562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00720" y="232092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716360" y="5778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4140000" y="3544920"/>
              <a:ext cx="936360" cy="2233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619280" y="469728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619280" y="469728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1834920" y="5778360"/>
              <a:ext cx="21564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35640" y="3186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780000" y="5778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16000" y="4481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979640" y="541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524720" y="5778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19280" y="5418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1640" y="2465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716360" y="224964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716360" y="2249280"/>
              <a:ext cx="0" cy="36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11640" y="4121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84720" y="573408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132000" y="5734080"/>
              <a:ext cx="5763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0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16360" y="5805360"/>
              <a:ext cx="338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5" name=""/>
                <p:cNvSpPr txBox="1"/>
                <p:nvPr/>
              </p:nvSpPr>
              <p:spPr>
                <a:xfrm>
                  <a:off x="3635280" y="692280"/>
                  <a:ext cx="465300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529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71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26" name=""/>
            <p:cNvSpPr/>
            <p:nvPr/>
          </p:nvSpPr>
          <p:spPr>
            <a:xfrm>
              <a:off x="2484360" y="1125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050920" y="5805360"/>
              <a:ext cx="26654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3779640" y="25351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929" name=""/>
          <p:cNvGrpSpPr/>
          <p:nvPr/>
        </p:nvGrpSpPr>
        <p:grpSpPr>
          <a:xfrm>
            <a:off x="179280" y="-101520"/>
            <a:ext cx="8964360" cy="7028280"/>
            <a:chOff x="179280" y="-101520"/>
            <a:chExt cx="8964360" cy="7028280"/>
          </a:xfrm>
        </p:grpSpPr>
        <p:sp>
          <p:nvSpPr>
            <p:cNvPr id="1930" name=""/>
            <p:cNvSpPr/>
            <p:nvPr/>
          </p:nvSpPr>
          <p:spPr>
            <a:xfrm>
              <a:off x="971280" y="73512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15640" y="51278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618920" y="94932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618920" y="17431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156000" y="224784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48000" y="35434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1964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79280" y="-10152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916000" y="38322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16360" y="2319480"/>
              <a:ext cx="0" cy="4103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71280" y="1887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716360" y="5919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71280" y="12398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859280" y="95112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4" name=""/>
                <p:cNvSpPr txBox="1"/>
                <p:nvPr/>
              </p:nvSpPr>
              <p:spPr>
                <a:xfrm>
                  <a:off x="4427280" y="806400"/>
                  <a:ext cx="390996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503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7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45" name=""/>
            <p:cNvSpPr/>
            <p:nvPr/>
          </p:nvSpPr>
          <p:spPr>
            <a:xfrm>
              <a:off x="1618920" y="138276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627280" y="210348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618920" y="1382760"/>
              <a:ext cx="43200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4140000" y="3614760"/>
              <a:ext cx="93672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1618920" y="2103480"/>
              <a:ext cx="43200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618920" y="42642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1618920" y="2103120"/>
              <a:ext cx="100836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050920" y="210348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050920" y="5343480"/>
              <a:ext cx="6049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618920" y="4264200"/>
              <a:ext cx="43200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27280" y="21034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76720" y="3614760"/>
              <a:ext cx="30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1691640" y="5343480"/>
              <a:ext cx="35892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435280" y="32562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03640" y="361476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79640" y="5343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15640" y="4119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79280" y="49831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627280" y="5884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84720" y="58834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692000" y="62802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00720" y="282276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019640" y="282276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59280" y="36147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2000" y="62071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92000" y="6280200"/>
              <a:ext cx="640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716360" y="6280200"/>
              <a:ext cx="3384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1618560" y="628020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618920" y="505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403280" y="62071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71280" y="25354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-3492360" y="0"/>
            <a:ext cx="12636360" cy="6603120"/>
            <a:chOff x="-3492360" y="0"/>
            <a:chExt cx="12636360" cy="6603120"/>
          </a:xfrm>
        </p:grpSpPr>
        <p:grpSp>
          <p:nvGrpSpPr>
            <p:cNvPr id="170" name=""/>
            <p:cNvGrpSpPr/>
            <p:nvPr/>
          </p:nvGrpSpPr>
          <p:grpSpPr>
            <a:xfrm>
              <a:off x="-3492360" y="0"/>
              <a:ext cx="12636360" cy="6603120"/>
              <a:chOff x="-3492360" y="0"/>
              <a:chExt cx="12636360" cy="6603120"/>
            </a:xfrm>
          </p:grpSpPr>
          <p:sp>
            <p:nvSpPr>
              <p:cNvPr id="171" name=""/>
              <p:cNvSpPr/>
              <p:nvPr/>
            </p:nvSpPr>
            <p:spPr>
              <a:xfrm>
                <a:off x="611280" y="907920"/>
                <a:ext cx="7920000" cy="5257800"/>
              </a:xfrm>
              <a:prstGeom prst="rect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83280" y="6381720"/>
                <a:ext cx="21607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9280" y="0"/>
                <a:ext cx="88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56040" y="476100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492360" y="981000"/>
                <a:ext cx="377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rtTriangle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17600" y="1176480"/>
                <a:ext cx="0" cy="45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38240" y="2795760"/>
                <a:ext cx="785880" cy="1077840"/>
              </a:xfrm>
              <a:prstGeom prst="rtTriangle">
                <a:avLst/>
              </a:prstGeom>
              <a:solidFill>
                <a:srgbClr val="0066ff">
                  <a:alpha val="4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17600" y="1917720"/>
                <a:ext cx="7134120" cy="2157480"/>
              </a:xfrm>
              <a:prstGeom prst="line">
                <a:avLst/>
              </a:prstGeom>
              <a:ln w="381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56000" y="3860640"/>
                <a:ext cx="2370240" cy="1832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38240" y="1647720"/>
                <a:ext cx="0" cy="364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4692600" y="1176480"/>
                    <a:ext cx="336240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,0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09-0,05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4" name=""/>
              <p:cNvSpPr/>
              <p:nvPr/>
            </p:nvSpPr>
            <p:spPr>
              <a:xfrm flipV="1">
                <a:off x="1332000" y="3860640"/>
                <a:ext cx="3024000" cy="12988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32000" y="3860280"/>
                <a:ext cx="1368360" cy="1297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9640" y="2492280"/>
                <a:ext cx="14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66ff"/>
                    </a:solidFill>
                    <a:latin typeface="Times New Roman"/>
                  </a:rPr>
                  <a:t>T</a:t>
                </a:r>
                <a:r>
                  <a:rPr b="1" lang="es-ES" sz="1800" spc="-1" strike="noStrike" baseline="-25000">
                    <a:solidFill>
                      <a:srgbClr val="0066ff"/>
                    </a:solidFill>
                    <a:latin typeface="Times New Roman"/>
                  </a:rPr>
                  <a:t>S</a:t>
                </a:r>
                <a:r>
                  <a:rPr b="1" lang="es-ES" sz="1800" spc="-1" strike="noStrike">
                    <a:solidFill>
                      <a:srgbClr val="0066ff"/>
                    </a:solidFill>
                    <a:latin typeface="Times New Roman"/>
                  </a:rPr>
                  <a:t>= 1514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03280" y="3860640"/>
                <a:ext cx="517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11640" y="45813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4360" y="17002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4360" y="36450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40360" y="34290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1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1640" y="342900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0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27640" y="3860640"/>
                <a:ext cx="331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67640" y="3429000"/>
                <a:ext cx="7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5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79640" y="3789360"/>
                <a:ext cx="72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32000" y="5229360"/>
                <a:ext cx="1655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00360" y="3860640"/>
                <a:ext cx="165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2349360"/>
                <a:ext cx="63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50920" y="260280"/>
            <a:ext cx="8893080" cy="6599520"/>
            <a:chOff x="250920" y="260280"/>
            <a:chExt cx="8893080" cy="6599520"/>
          </a:xfrm>
        </p:grpSpPr>
        <p:grpSp>
          <p:nvGrpSpPr>
            <p:cNvPr id="1977" name=""/>
            <p:cNvGrpSpPr/>
            <p:nvPr/>
          </p:nvGrpSpPr>
          <p:grpSpPr>
            <a:xfrm>
              <a:off x="539640" y="2421000"/>
              <a:ext cx="8129520" cy="2852640"/>
              <a:chOff x="539640" y="2421000"/>
              <a:chExt cx="8129520" cy="2852640"/>
            </a:xfrm>
          </p:grpSpPr>
          <p:sp>
            <p:nvSpPr>
              <p:cNvPr id="1978" name=""/>
              <p:cNvSpPr/>
              <p:nvPr/>
            </p:nvSpPr>
            <p:spPr>
              <a:xfrm>
                <a:off x="3781440" y="49053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885080" y="4905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6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9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421000"/>
                <a:ext cx="3959280" cy="25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1" name="" descr=""/>
              <p:cNvPicPr/>
              <p:nvPr/>
            </p:nvPicPr>
            <p:blipFill>
              <a:blip r:embed="rId2"/>
              <a:srcRect l="0" t="0" r="0" b="1088"/>
              <a:stretch/>
            </p:blipFill>
            <p:spPr>
              <a:xfrm>
                <a:off x="4645080" y="2421000"/>
                <a:ext cx="4024080" cy="252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2" name=""/>
            <p:cNvSpPr/>
            <p:nvPr/>
          </p:nvSpPr>
          <p:spPr>
            <a:xfrm>
              <a:off x="7128000" y="65833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onstrucción (flejes); cuerdas de piano; piezas de pequeño espesor; (no se suministra en estado normalizad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50920" y="260280"/>
              <a:ext cx="8713800" cy="20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1,0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Temple + Reven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1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3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4 %; HRC = 41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03280" y="497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Estado normaliz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92720" y="49784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taque con picrato sód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202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7600" y="1917720"/>
              <a:ext cx="1382760" cy="18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6000" y="3789360"/>
              <a:ext cx="2370240" cy="190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332000" y="3789360"/>
              <a:ext cx="3024000" cy="1370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580000" y="1052640"/>
                  <a:ext cx="283212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09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50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140328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1640" y="4581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8936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8000" y="522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2000" y="134136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00360" y="378936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31280" y="3789360"/>
              <a:ext cx="1368360" cy="13683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331280" y="4221000"/>
              <a:ext cx="936360" cy="936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68360" y="1700280"/>
              <a:ext cx="0" cy="3639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5280" y="3933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332000" y="4508280"/>
              <a:ext cx="1439640" cy="64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332000" y="3789000"/>
              <a:ext cx="136836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-3492360" y="0"/>
            <a:ext cx="12636360" cy="6603120"/>
            <a:chOff x="-3492360" y="0"/>
            <a:chExt cx="12636360" cy="6603120"/>
          </a:xfrm>
        </p:grpSpPr>
        <p:sp>
          <p:nvSpPr>
            <p:cNvPr id="233" name=""/>
            <p:cNvSpPr/>
            <p:nvPr/>
          </p:nvSpPr>
          <p:spPr>
            <a:xfrm>
              <a:off x="684360" y="83664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3492360" y="981000"/>
              <a:ext cx="377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332000" y="3860640"/>
              <a:ext cx="3024000" cy="144000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331280" y="4869000"/>
              <a:ext cx="936360" cy="433080"/>
            </a:xfrm>
            <a:prstGeom prst="rtTriangle">
              <a:avLst/>
            </a:prstGeom>
            <a:solidFill>
              <a:srgbClr val="0066ff">
                <a:alpha val="4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8360" y="1916280"/>
              <a:ext cx="0" cy="3639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19640" y="907920"/>
                  <a:ext cx="3095640" cy="11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17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4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24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 flipV="1">
              <a:off x="1332000" y="3860640"/>
              <a:ext cx="1368360" cy="1440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3280" y="3284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0" y="486900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000" y="5516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9280" y="148428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508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8360" y="436572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332000" y="3860640"/>
              <a:ext cx="3024000" cy="1440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264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63640" y="105264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79640" y="5950080"/>
              <a:ext cx="7128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19280" y="6021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5640" y="5013360"/>
              <a:ext cx="3528720" cy="936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95640" y="1483920"/>
              <a:ext cx="0" cy="4537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65300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716360" y="765000"/>
                  <a:ext cx="35276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19564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0:50:27Z</dcterms:created>
  <dc:creator>Jose Ovidio</dc:creator>
  <dc:description/>
  <dc:language>en-US</dc:language>
  <cp:lastModifiedBy>José Ovidio García</cp:lastModifiedBy>
  <dcterms:modified xsi:type="dcterms:W3CDTF">2005-07-21T21:29:58Z</dcterms:modified>
  <cp:revision>169</cp:revision>
  <dc:subject/>
  <dc:title>Diapositiva 1</dc:title>
</cp:coreProperties>
</file>